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597F-A32E-42CF-8038-B8ACE47C58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ork in pairs / small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CFC-95F4-4EBD-9F4C-88B028B184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1.5 – 2 hours: speaking – 10 mins; grammar focus: 10 mins; quiz – 10–20 mins; reading – 20–30 mins; writing – 20–30 mins; final reading – 1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C607-A8B8-4FC4-BC64-A3B4ED2824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h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y used to”. Sentence 2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reat d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804-39FC-45E5-8AE5-50BAEE455E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anywhe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el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”. Sentence 2 should be “export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 …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AEA1-FD8D-475E-9C1D-D45E81EECD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quiz answers in groups or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39C-F7B0-4CD6-BA95-C2E9AEFFCF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the class into 3 groups and give one text (paper version or on-line) to each group to find the answers. Then they can comp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9D1B-3A11-4673-B55F-0987A032CF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64E-9A80-4C85-B65C-6D92E4B4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3CF-5802-4AAC-835B-57ADFAD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DC5-ACB3-48E4-8FC4-F098614F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BD7-C250-44C6-B47F-BE59DA5C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08B-A31D-4489-9E00-B9D6F15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851-73C4-4C64-A110-CB78F5BF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D31-C173-475E-8030-F12B30CF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895-602A-4662-8BCD-0D93838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B1F-F379-4FEB-A1E7-476E6AEC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B39-F634-4620-B702-B3CEE13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699-D66F-4530-AE59-0A52C570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2A5-7C24-40A2-A8BF-0E3B2FF6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D0A-D8DA-4177-BCCD-5ED117B5E0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eewiki.newint.org/index.php/A_new_Cuba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2103480" y="1749600"/>
            <a:ext cx="595476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112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Intermediate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3148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00052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59000" y="309600"/>
            <a:ext cx="573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) Find three pos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oints about Cu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nd three problem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has in each of th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 articles.  Compare wi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th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) Choose one of the articles to read in the original version – click on the link at the bottom of the Easy English article. Compare / learn from the differences in the language between the tw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67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2808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39760" cy="30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2927520" y="1262160"/>
            <a:ext cx="2160360" cy="324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4652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5"/>
          <a:stretch/>
        </p:blipFill>
        <p:spPr>
          <a:xfrm>
            <a:off x="900000" y="439092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6"/>
          <a:stretch/>
        </p:blipFill>
        <p:spPr>
          <a:xfrm>
            <a:off x="5551560" y="1341360"/>
            <a:ext cx="3566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PHOTO_ESSAY:_Cuba_is_cha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2582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discussing graph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Book Antiqua"/>
              </a:rPr>
              <a:t>Grammar focus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making comparis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quiz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skimm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for detai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ook Antiqua"/>
              </a:rPr>
              <a:t>Writing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 captions for phot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3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to compare cap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67760" cy="2256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2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176040" y="-49320"/>
            <a:ext cx="8643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56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1/ Cuba now exports far less rum as they used t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2/ Cuba exports great deal more oil products now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3/ Now Cuba exports a lot more medical services than before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645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2723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1/ More of their imports came from Venezuela than anywhere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2/ They exported most to Venezuela than to any other country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3/ They imported slightly more from Spain than from Brazi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7053120" y="-55440"/>
            <a:ext cx="2041560" cy="126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/ How old is Cuba's leader Raul Castro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/ And how old is Fidel Castro (Cuba's leader before his brother Raul)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/ How much does a car cost in Cuba that costs $30,000 in Europe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5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12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/ Until when was it illegal for Cubans to use internet from their home computer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May 198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May 2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May 2014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/ When will President Raul Castro leave politics as Presiden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201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201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202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/ What % of the Government deputies in Cuba are in the Communist Party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50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73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/ When was the revolution in Cub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5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/ And when was the Cuban missile crisi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2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/ How much will the new Cuban port at Mariel cos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9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9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90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/ How many doctors have Cuba sent to Venezuel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3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3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-85680" y="0"/>
            <a:ext cx="912024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919160"/>
            <a:ext cx="8715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1, 2, 3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 new Cub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A_new_Cub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4, 5, 6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– the communist party and the medi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http://eewiki.newint.org/index.php/Cuba_%E2%80%93_the_communist_party_and_the_medi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7, 8, 9, 10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’s big bet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uba%27s_big_b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</a:t>
            </a: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( If you need the answers, see:  http://eewiki.newint.org/index.php/CUBA_quiz:_answer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867280" y="1058760"/>
            <a:ext cx="3027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5:12:43Z</dcterms:created>
  <dc:creator>Linda Ruas</dc:creator>
  <dc:description/>
  <dc:language>en-US</dc:language>
  <cp:lastModifiedBy>Linda Ruas</cp:lastModifiedBy>
  <dcterms:modified xsi:type="dcterms:W3CDTF">2014-11-02T12:36:17Z</dcterms:modified>
  <cp:revision>17</cp:revision>
  <dc:subject/>
  <dc:title>Cuba</dc:title>
</cp:coreProperties>
</file>